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AB2A-1990-4F7F-80CA-89173B87125B}"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fi.opasnet.org/fi/THL:n_s%C3%A4hk%C3%B6inen_viestint%C3%A4#Vapaa_k.C3.A4ytt.C3.B6oikeu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File:Paul_the_Octopus_picks_Spain_over_Holland_in_World_Cup_final_2010-07-09.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Paul_the_Octo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ttp://en.wikipedia.org/wiki/Paul_the_Octo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akutulok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4 Add Search #2 AND #3 9872 00:12: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3 Add Search mortality OR morbidity OR epidemiology OR health effect 1956027 00:12: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2 Add Search fine particles OR PM2.5 OR airborne particulate matter OR fine particulate matter 44603 00:10: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äistä reviewta: 1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Hakutulok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4 Add Search #2 AND #3 9872 00:12:4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3 Add Search mortality OR morbidity OR epidemiology OR health effect 1956027 00:12: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2 Add Search fine particles OR PM2.5 OR airborne particulate matter OR fine particulate matter 44603 00:10: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Näistä reviewta: 11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9"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7"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2"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3"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39640" y="6308640"/>
            <a:ext cx="3616200" cy="107640"/>
            <a:chOff x="539640" y="6308640"/>
            <a:chExt cx="3616200" cy="107640"/>
          </a:xfrm>
        </p:grpSpPr>
        <p:sp>
          <p:nvSpPr>
            <p:cNvPr id="1" name=""/>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88320" y="5661000"/>
            <a:ext cx="1076400" cy="865080"/>
          </a:xfrm>
          <a:prstGeom prst="rect">
            <a:avLst/>
          </a:prstGeom>
          <a:ln w="0">
            <a:noFill/>
          </a:ln>
        </p:spPr>
      </p:pic>
      <p:sp>
        <p:nvSpPr>
          <p:cNvPr id="4"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6"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241280" y="3951360"/>
            <a:ext cx="6661440" cy="198360"/>
            <a:chOff x="1241280" y="3951360"/>
            <a:chExt cx="6661440" cy="198360"/>
          </a:xfrm>
        </p:grpSpPr>
        <p:sp>
          <p:nvSpPr>
            <p:cNvPr id="44" name=""/>
            <p:cNvSpPr/>
            <p:nvPr/>
          </p:nvSpPr>
          <p:spPr>
            <a:xfrm>
              <a:off x="4195800" y="395136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241280" y="395136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ftr" idx="1"/>
          </p:nvPr>
        </p:nvSpPr>
        <p:spPr>
          <a:xfrm>
            <a:off x="899640" y="6237360"/>
            <a:ext cx="7488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2532240" y="568440"/>
            <a:ext cx="3668400" cy="294948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mparisto.fi/"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Avoimen datan hyödyntäminen YMTOssa</a:t>
            </a:r>
            <a:endParaRPr b="1" lang="en-US" sz="3400" spc="-1" strike="noStrike">
              <a:solidFill>
                <a:srgbClr val="ffffff"/>
              </a:solidFill>
              <a:latin typeface="Arial"/>
            </a:endParaRPr>
          </a:p>
        </p:txBody>
      </p:sp>
      <p:sp>
        <p:nvSpPr>
          <p:cNvPr id="95" name="PlaceHolder 2"/>
          <p:cNvSpPr>
            <a:spLocks noGrp="1"/>
          </p:cNvSpPr>
          <p:nvPr>
            <p:ph type="subTitle"/>
          </p:nvPr>
        </p:nvSpPr>
        <p:spPr>
          <a:xfrm>
            <a:off x="1403280" y="6021360"/>
            <a:ext cx="6400800" cy="836640"/>
          </a:xfrm>
          <a:prstGeom prst="rect">
            <a:avLst/>
          </a:prstGeom>
          <a:noFill/>
          <a:ln w="0">
            <a:noFill/>
          </a:ln>
        </p:spPr>
        <p:txBody>
          <a:bodyPr lIns="90000" rIns="90000" tIns="46800" bIns="46800" anchor="t">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rPr>
              <a:t>Jouni Tuomisto, TH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Opasnetin avoimet työkalut ovat?</a:t>
            </a:r>
            <a:endParaRPr b="1" lang="en-US" sz="3400" spc="-1" strike="noStrike">
              <a:solidFill>
                <a:srgbClr val="7bc143"/>
              </a:solidFill>
              <a:latin typeface="Arial"/>
            </a:endParaRPr>
          </a:p>
        </p:txBody>
      </p:sp>
      <p:sp>
        <p:nvSpPr>
          <p:cNvPr id="11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Wiki: kirjoitus- ja keskustelutil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portit, käsikirjoitukset, arvioinnit, pohdinnat</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pasnet-kanta data varastointiin</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kanta mille tahansa datalle, jonka voi ilmasta lukuja ja tekstiä sisältävänä taulukkona.</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2b: wiki-sivun taulukon tallennus tietokantaan</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tools: laskentaan ja mallitukseen</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 on tilasto-ohjelma, jolla voi tehdä melkein mitä vain.</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files: tiedostonhallintajärjestelmä</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it raportit, artikkelit, datatiedostot</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GIS: karttatyökalu tulossa lähiviikkoin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wiki</a:t>
            </a:r>
            <a:endParaRPr b="1" lang="en-US" sz="3400" spc="-1" strike="noStrike">
              <a:solidFill>
                <a:srgbClr val="7bc143"/>
              </a:solidFill>
              <a:latin typeface="Arial"/>
            </a:endParaRPr>
          </a:p>
        </p:txBody>
      </p:sp>
      <p:sp>
        <p:nvSpPr>
          <p:cNvPr id="11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7" name="" descr=""/>
          <p:cNvPicPr/>
          <p:nvPr/>
        </p:nvPicPr>
        <p:blipFill>
          <a:blip r:embed="rId1"/>
          <a:stretch/>
        </p:blipFill>
        <p:spPr>
          <a:xfrm>
            <a:off x="0" y="0"/>
            <a:ext cx="9144000" cy="66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2b</a:t>
            </a:r>
            <a:endParaRPr b="1" lang="en-US" sz="3400" spc="-1" strike="noStrike">
              <a:solidFill>
                <a:srgbClr val="7bc143"/>
              </a:solidFill>
              <a:latin typeface="Arial"/>
            </a:endParaRPr>
          </a:p>
        </p:txBody>
      </p:sp>
      <p:sp>
        <p:nvSpPr>
          <p:cNvPr id="1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0"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kanta</a:t>
            </a:r>
            <a:endParaRPr b="1" lang="en-US" sz="3400" spc="-1" strike="noStrike">
              <a:solidFill>
                <a:srgbClr val="7bc143"/>
              </a:solidFill>
              <a:latin typeface="Arial"/>
            </a:endParaRPr>
          </a:p>
        </p:txBody>
      </p:sp>
      <p:sp>
        <p:nvSpPr>
          <p:cNvPr id="12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3"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R-tools</a:t>
            </a:r>
            <a:endParaRPr b="1" lang="en-US" sz="3400" spc="-1" strike="noStrike">
              <a:solidFill>
                <a:srgbClr val="7bc143"/>
              </a:solidFill>
              <a:latin typeface="Arial"/>
            </a:endParaRPr>
          </a:p>
        </p:txBody>
      </p:sp>
      <p:sp>
        <p:nvSpPr>
          <p:cNvPr id="12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6"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files</a:t>
            </a:r>
            <a:endParaRPr b="1" lang="en-US" sz="3400" spc="-1" strike="noStrike">
              <a:solidFill>
                <a:srgbClr val="7bc143"/>
              </a:solidFill>
              <a:latin typeface="Arial"/>
            </a:endParaRPr>
          </a:p>
        </p:txBody>
      </p:sp>
      <p:sp>
        <p:nvSpPr>
          <p:cNvPr id="12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9" name="" descr=""/>
          <p:cNvPicPr/>
          <p:nvPr/>
        </p:nvPicPr>
        <p:blipFill>
          <a:blip r:embed="rId1"/>
          <a:stretch/>
        </p:blipFill>
        <p:spPr>
          <a:xfrm>
            <a:off x="0" y="0"/>
            <a:ext cx="9144000" cy="664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Opasnetin työkalujen piirteitä</a:t>
            </a:r>
            <a:endParaRPr b="1" lang="en-US" sz="3400" spc="-1" strike="noStrike">
              <a:solidFill>
                <a:srgbClr val="7bc143"/>
              </a:solidFill>
              <a:latin typeface="Arial"/>
            </a:endParaRPr>
          </a:p>
        </p:txBody>
      </p:sp>
      <p:sp>
        <p:nvSpPr>
          <p:cNvPr id="13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 toimii käyttöliittymänä kaikkiin työkaluih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elle tiedolle on avoin tila (oletus) sekä salasanalla suojattu alue Heande.</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ourallinen työkaluja, aiheesta riippumatta hurjasti toiminnallisuuks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on tiede? </a:t>
            </a:r>
            <a:endParaRPr b="1" lang="en-US" sz="3400" spc="-1" strike="noStrike">
              <a:solidFill>
                <a:srgbClr val="7bc143"/>
              </a:solidFill>
              <a:latin typeface="Arial"/>
            </a:endParaRPr>
          </a:p>
        </p:txBody>
      </p:sp>
      <p:sp>
        <p:nvSpPr>
          <p:cNvPr id="13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esittävät avoimesti ideoita (hypoteeseja) siitä miten asiat ovat.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yrittävät kumota näitä hypoteeseja osoittamalla, etteivät ne ole sopusoinnussa havaintojen kanss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ki yrittävät kehittää hyvinä pitämiään ideoita eteenpä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Wingdings"/>
                <a:ea typeface="Wingdings"/>
              </a:rPr>
              <a:t></a:t>
            </a:r>
            <a:r>
              <a:rPr b="0" lang="fi-FI" sz="2600" spc="-1" strike="noStrike">
                <a:solidFill>
                  <a:srgbClr val="000000"/>
                </a:solidFill>
                <a:latin typeface="Arial"/>
              </a:rPr>
              <a:t> </a:t>
            </a:r>
            <a:r>
              <a:rPr b="0" lang="fi-FI" sz="2600" spc="-1" strike="noStrike">
                <a:solidFill>
                  <a:srgbClr val="000000"/>
                </a:solidFill>
                <a:latin typeface="Arial"/>
              </a:rPr>
              <a:t>Kaikki tästä poikkeava vie meitä kauemmas tieteen ideaalis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järjestelmän laadunarviointi</a:t>
            </a:r>
            <a:endParaRPr b="1" lang="en-US" sz="3400" spc="-1" strike="noStrike">
              <a:solidFill>
                <a:srgbClr val="7bc143"/>
              </a:solidFill>
              <a:latin typeface="Arial"/>
            </a:endParaRPr>
          </a:p>
        </p:txBody>
      </p:sp>
      <p:sp>
        <p:nvSpPr>
          <p:cNvPr id="13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jälkikäteen tapahtuvaa peer reviewta auttamaan lukijoit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sisällön arviointisysteemi tieteellisen laadun suhteen (työlästä).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aan sisällön arvointisysteemi hyödyllisyyden suhteen (onnistuu osittain automaattisesti perustuen siihen, paljonko asioita luetaan ja linka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aatua arvioidaan ensin hyödyllisistä asioista, jolloin säästyy aikaa ja vaiva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aadunarviointi myös houkuttelee osallistujia, koska on mielekkäämpää osallistua tärkeän kuin hyödyttömän asian työstämisee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mä on tärkeämpää kuin saada yksilöllistä kunniaa työstään. On yhtä hienoa voittaa viestijuoksu kuin tavallinen juoks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en tekijänoikeudet ja käyttöoikeudet liittyvät avoimuuteen?</a:t>
            </a:r>
            <a:endParaRPr b="1" lang="en-US" sz="3400" spc="-1" strike="noStrike">
              <a:solidFill>
                <a:srgbClr val="7bc143"/>
              </a:solidFill>
              <a:latin typeface="Arial"/>
            </a:endParaRPr>
          </a:p>
        </p:txBody>
      </p:sp>
      <p:sp>
        <p:nvSpPr>
          <p:cNvPr id="137" name="PlaceHolder 2"/>
          <p:cNvSpPr>
            <a:spLocks noGrp="1"/>
          </p:cNvSpPr>
          <p:nvPr>
            <p:ph/>
          </p:nvPr>
        </p:nvSpPr>
        <p:spPr>
          <a:xfrm>
            <a:off x="178920" y="1484280"/>
            <a:ext cx="7931160" cy="4608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Perinteinen copyright (syntyy automaattisesti lain nojalla)</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ijä määrää teoksen julkaisemisesta ja käytöstä.</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oksen osia ei saa käyttää ilman nimenomaista lupaa.</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tenkin lainaus- eli siteerausoikeus on kaikilla.</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hde on mainittav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CC-BY-SA (eräs copyleft-lisenssi)</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C: Creative Commonsin kehittämä käyttöoikeusstandardi.</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osta saa käyttää mihin tahansa tarkoitukseen, kunhan:</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BY: siteeraa alkuperäislähdettä asianmukaisesti.</a:t>
            </a:r>
            <a:endParaRPr b="0" lang="en-US" sz="2000" spc="-1" strike="noStrike">
              <a:solidFill>
                <a:srgbClr val="000000"/>
              </a:solidFill>
              <a:latin typeface="Arial"/>
            </a:endParaRPr>
          </a:p>
          <a:p>
            <a:pPr lvl="2" marL="1254240" indent="-265320">
              <a:lnSpc>
                <a:spcPct val="75000"/>
              </a:lnSpc>
              <a:spcBef>
                <a:spcPts val="624"/>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 share alike eli johdannaistuotteille on annettava samanlainen vapaa käyttöoikeus.</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saa antaa vaikutelmaa, että alkuperäiset tekijät olisivat hyväksyneet johdannaistuotteen sisällön tai tarkoitukse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nnössä varmistaa kaikki THL:n kannalta olennaiset asiat.</a:t>
            </a:r>
            <a:endParaRPr b="0" lang="en-US" sz="2000" spc="-1" strike="noStrike">
              <a:solidFill>
                <a:srgbClr val="000000"/>
              </a:solidFill>
              <a:latin typeface="Arial"/>
            </a:endParaRPr>
          </a:p>
        </p:txBody>
      </p:sp>
      <p:pic>
        <p:nvPicPr>
          <p:cNvPr id="138" name="" descr=""/>
          <p:cNvPicPr/>
          <p:nvPr/>
        </p:nvPicPr>
        <p:blipFill>
          <a:blip r:embed="rId1"/>
          <a:stretch/>
        </p:blipFill>
        <p:spPr>
          <a:xfrm>
            <a:off x="7780320" y="3357720"/>
            <a:ext cx="1363680" cy="133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Näkökulmia avoimuuteen: </a:t>
            </a:r>
            <a:endParaRPr b="1" lang="en-US" sz="3400" spc="-1" strike="noStrike">
              <a:solidFill>
                <a:srgbClr val="7bc143"/>
              </a:solidFill>
              <a:latin typeface="Arial"/>
            </a:endParaRPr>
          </a:p>
        </p:txBody>
      </p:sp>
      <p:sp>
        <p:nvSpPr>
          <p:cNvPr id="9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Megatrendi.</a:t>
            </a:r>
            <a:r>
              <a:rPr b="0" lang="fi-FI" sz="2200" spc="-1" strike="noStrike">
                <a:solidFill>
                  <a:srgbClr val="000000"/>
                </a:solidFill>
                <a:latin typeface="Arial"/>
              </a:rPr>
              <a:t> Se on kansainvälinen, hallituksen, valtiovarainministeriön ja THL:n strateginen tavoite.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Vaikuttavuus</a:t>
            </a:r>
            <a:r>
              <a:rPr b="0" lang="fi-FI" sz="2200" spc="-1" strike="noStrike">
                <a:solidFill>
                  <a:srgbClr val="000000"/>
                </a:solidFill>
                <a:latin typeface="Arial"/>
              </a:rPr>
              <a:t>. Se on vaikuttavampi tapa jakaa hyödyllistä tietoa yhteiskuntaan.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Käytännöllisyys</a:t>
            </a:r>
            <a:r>
              <a:rPr b="0" lang="fi-FI" sz="2200" spc="-1" strike="noStrike">
                <a:solidFill>
                  <a:srgbClr val="000000"/>
                </a:solidFill>
                <a:latin typeface="Arial"/>
              </a:rPr>
              <a:t>.</a:t>
            </a:r>
            <a:endParaRPr b="0" lang="en-US" sz="2200" spc="-1" strike="noStrike">
              <a:solidFill>
                <a:srgbClr val="000000"/>
              </a:solidFill>
              <a:latin typeface="Arial"/>
            </a:endParaRPr>
          </a:p>
          <a:p>
            <a:pPr lvl="1" marL="917640" indent="-381240">
              <a:lnSpc>
                <a:spcPct val="75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vähentää riippuvuutta huonoista suljetuista järjestelmistä.</a:t>
            </a:r>
            <a:endParaRPr b="0" lang="en-US" sz="2000" spc="-1" strike="noStrike">
              <a:solidFill>
                <a:srgbClr val="000000"/>
              </a:solidFill>
              <a:latin typeface="Arial"/>
            </a:endParaRPr>
          </a:p>
          <a:p>
            <a:pPr lvl="1" marL="917640" indent="-381240">
              <a:lnSpc>
                <a:spcPct val="75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tekee virheiden löytämisen ja korjaamisen helpommaksi ja säästää aikaa. </a:t>
            </a:r>
            <a:endParaRPr b="0" lang="en-US" sz="20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Tieteellisyys</a:t>
            </a:r>
            <a:r>
              <a:rPr b="0" lang="fi-FI" sz="2200" spc="-1" strike="noStrike">
                <a:solidFill>
                  <a:srgbClr val="000000"/>
                </a:solidFill>
                <a:latin typeface="Arial"/>
              </a:rPr>
              <a:t>. Se on tehokkaampi tapa kerätä ja tuottaa tieteellistä tietoa.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Merkityksellisyys</a:t>
            </a:r>
            <a:r>
              <a:rPr b="0" lang="fi-FI" sz="2200" spc="-1" strike="noStrike">
                <a:solidFill>
                  <a:srgbClr val="000000"/>
                </a:solidFill>
                <a:latin typeface="Arial"/>
              </a:rPr>
              <a:t>. Se kytkee tiedontuotannon suoraan käyttöön ja auttaa näin näkemään, mikä merkitys on omalla työllä. </a:t>
            </a:r>
            <a:endParaRPr b="0" lang="en-US" sz="2200" spc="-1" strike="noStrike">
              <a:solidFill>
                <a:srgbClr val="000000"/>
              </a:solidFill>
              <a:latin typeface="Arial"/>
            </a:endParaRPr>
          </a:p>
          <a:p>
            <a:pPr marL="419040" indent="-419040">
              <a:lnSpc>
                <a:spcPct val="75000"/>
              </a:lnSpc>
              <a:spcBef>
                <a:spcPts val="964"/>
              </a:spcBef>
              <a:buClr>
                <a:srgbClr val="7bc1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0000"/>
                </a:solidFill>
                <a:latin typeface="Arial"/>
              </a:rPr>
              <a:t>Hauskuus</a:t>
            </a:r>
            <a:r>
              <a:rPr b="0" lang="fi-FI" sz="2200" spc="-1" strike="noStrike">
                <a:solidFill>
                  <a:srgbClr val="000000"/>
                </a:solidFill>
                <a:latin typeface="Arial"/>
              </a:rPr>
              <a:t>. Siinä saa uusia kavereita ja se on kiva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Nettisivujen määrä eri THL:n sivustoilla</a:t>
            </a:r>
            <a:endParaRPr b="1" lang="en-US" sz="3400" spc="-1" strike="noStrike">
              <a:solidFill>
                <a:srgbClr val="7bc143"/>
              </a:solidFill>
              <a:latin typeface="Arial"/>
            </a:endParaRPr>
          </a:p>
        </p:txBody>
      </p:sp>
      <p:sp>
        <p:nvSpPr>
          <p:cNvPr id="14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1" name="" descr=""/>
          <p:cNvPicPr/>
          <p:nvPr/>
        </p:nvPicPr>
        <p:blipFill>
          <a:blip r:embed="rId1"/>
          <a:stretch/>
        </p:blipFill>
        <p:spPr>
          <a:xfrm>
            <a:off x="0" y="1341360"/>
            <a:ext cx="8143920" cy="795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ulkisen sektorin avoimuus: VN periaatepäätös</a:t>
            </a:r>
            <a:endParaRPr b="1" lang="en-US" sz="3400" spc="-1" strike="noStrike">
              <a:solidFill>
                <a:srgbClr val="7bc143"/>
              </a:solidFill>
              <a:latin typeface="Arial"/>
            </a:endParaRPr>
          </a:p>
        </p:txBody>
      </p:sp>
      <p:sp>
        <p:nvSpPr>
          <p:cNvPr id="143" name="PlaceHolder 2"/>
          <p:cNvSpPr>
            <a:spLocks noGrp="1"/>
          </p:cNvSpPr>
          <p:nvPr>
            <p:ph/>
          </p:nvPr>
        </p:nvSpPr>
        <p:spPr>
          <a:xfrm>
            <a:off x="456840" y="1483920"/>
            <a:ext cx="8218440" cy="4537080"/>
          </a:xfrm>
          <a:prstGeom prst="rect">
            <a:avLst/>
          </a:prstGeom>
          <a:noFill/>
          <a:ln w="0">
            <a:noFill/>
          </a:ln>
        </p:spPr>
        <p:txBody>
          <a:bodyPr lIns="90000" rIns="90000" tIns="46800" bIns="46800" anchor="t">
            <a:normAutofit/>
          </a:bodyPr>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500" spc="-1" strike="noStrike">
                <a:solidFill>
                  <a:srgbClr val="000000"/>
                </a:solidFill>
                <a:latin typeface="Arial"/>
              </a:rPr>
              <a:t>Valtioneuvoston periaatepäätös julkisen sektorin digitaalisten tietoaineistojen saatavuuden parantamisesta ja uudelleenkäytön edistämisestä</a:t>
            </a:r>
            <a:r>
              <a:rPr b="0" lang="fi-FI" sz="1500" spc="-1" strike="noStrike">
                <a:solidFill>
                  <a:srgbClr val="000000"/>
                </a:solidFill>
                <a:latin typeface="Arial"/>
              </a:rPr>
              <a: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1.1.1 Velvoitetaan ja ohjeistetaan eri hallinnonaloja tehostamaan tiedonsaantia ja helpottamaan tuottamiensa ja hallussaan olevien julkisten tietoaineistojen käyttöä Valtiovarainministeriön (VM) ohjaamana ja viranomaisten viestintävelvoitteita koskevien säännösten mukaisesti.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1.2.2 Tietoaineistoa tulee voida käyttää mahdollisimman laajasti ilman erillisiä neuvotteluja ja lupamenettelyjä. Jos käytölle on syytä asettaa ehtoja, ehtojen tulee olla perustellut, selkeät, joustavat ja käyttöön kannustava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Tietoluovutuksissa tarjotaan tietoaineistot tiedon luovuttajan kannalta kustannustehokkaasti, kansantalouden kokonaisedun mukaisesti ja käyttäjälle pääsääntöisesti maksutta.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Maksujen perimisestä luovutaan valtionhallinnon sisällä sekä kuntien ja valtionhallinnon välillä tapahtuvien tietoluovutusten osalta. Toimintamallin merkittävät vaikutukset valtionhallinnon yksiköiden rahoitukseen ja kuntien valtionosuuksiin otetaan huomioon valtion tulo- ja menoarvion valmistelussa.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2.5.1 Avoimen tietoinfrastruktuurin palvelujen syntyminen turvataan rahoitusjärjestelmällä, jolla tähdätään nopeaan ja kustannustehokkaaseen toteutukseen. Arvioidaan tietoinfrastruktuurin (ml. rajapintapalvelut) pystyttämisen ja ylläpidon vaihtoehdot ja rahoitus (esimerkiksi budjettitalouden kautta määrärahasiirrot tai erillinen ohjelma kansallisen innovaatiojärjestelmän puitteissa) sekä toiminnallisten järjestelyjen resurssitarpeet (esimerkiksi tukipalvelut).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3.3.2 Edistetään julkisten tietoaineistojen saatavuutta ja hyödyntämistä tieteen ja tutkimuksen tarpeisiin sekä sähköisten oppimisympäristöjen kehittämisessä kaikilla koulutustasoilla. Järjestetään avoimiin tietoaineistoihin liittyvää koulutusta monella osaamistasolla.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en tiedon käyttöön kannustavia asiakirjoja </a:t>
            </a:r>
            <a:endParaRPr b="1" lang="en-US" sz="3400" spc="-1" strike="noStrike">
              <a:solidFill>
                <a:srgbClr val="7bc143"/>
              </a:solidFill>
              <a:latin typeface="Arial"/>
            </a:endParaRPr>
          </a:p>
        </p:txBody>
      </p:sp>
      <p:sp>
        <p:nvSpPr>
          <p:cNvPr id="14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ieto käyttöön</a:t>
            </a:r>
            <a:r>
              <a:rPr b="0" lang="fi-FI" sz="1100" spc="-1" strike="noStrike">
                <a:solidFill>
                  <a:srgbClr val="000000"/>
                </a:solidFill>
                <a:latin typeface="Arial"/>
              </a:rPr>
              <a:t> Tiekartta tutkimuksen sähköisten tietoaineistojen hyödyntämiseksi (OKM:n julkaisuja, 2011:4)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Mari Kiviniemen hallituksen ohjelma</a:t>
            </a:r>
            <a:r>
              <a:rPr b="0" lang="fi-FI" sz="1100" spc="-1" strike="noStrike">
                <a:solidFill>
                  <a:srgbClr val="000000"/>
                </a:solidFill>
                <a:latin typeface="Arial"/>
              </a:rPr>
              <a:t>. Julkishallinnon tietojärjestelmät sovitetaan yhteen mahdollisimman pikaisesti. Julkisen sektorin IT- konserniohjausta keskitetään ja sitä vahvistetaan. Hallitus tekee periaateratkaisut, jotka mahdollistavat julkisen sektorin hallussa olevan tiedon avaamisen ja saatavuuden tietosuojaa vaarantamatta.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Tuottava ja uudistuva Suomi - Digitaalinen agenda vuosille 2011-2020</a:t>
            </a:r>
            <a:r>
              <a:rPr b="0" lang="fi-FI" sz="1100" spc="-1" strike="noStrike">
                <a:solidFill>
                  <a:srgbClr val="000000"/>
                </a:solidFill>
                <a:latin typeface="Arial"/>
              </a:rPr>
              <a:t> (LVM:n muut julkaisut sarja, 2010). Tieto tuottavassa käytössä - osa esittää strategiset tavoitteet ja toimenpiteitä tavoitteiden saavuttamiseksi, jotta julkisten sektorin tieto saadaan tehokkaaseen käyttöön.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Kestävän talouskasvun ja työllisyyden ohjelma</a:t>
            </a:r>
            <a:r>
              <a:rPr b="0" lang="fi-FI" sz="1100" spc="-1" strike="noStrike">
                <a:solidFill>
                  <a:srgbClr val="000000"/>
                </a:solidFill>
                <a:latin typeface="Arial"/>
              </a:rPr>
              <a:t> (VNK:n julkaisusarja 16/2010). 48. Julkiset perustietovarannot tulee saada vapaasti kaikkien julkisen sektorin toimijoiden käyttöön aina kun sen on tietosuoja- ja muun lainsäädännön mukaan mahdollista. Julkisen sektorin sisällä tietovarantojen olemassa olevien tietojen veloitukseton hakeminen ja käyttö mahdollistetaan määrärahasiirroin ja muin budjettiteknisin keinoin. Erikseen tehtävästä tietojen jalostamisesta aiheutuvat kustannukset veloitetaan. Edistetään julkisin varoin tuotettujen julkisten tietovarantojen saamista kustannustehokkaasti yleiseen käyttöön kansantalouden kasvumahdollisuuksien parantamiseksi.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EU:n digitaalistrategia</a:t>
            </a:r>
            <a:r>
              <a:rPr b="0" lang="fi-FI" sz="1100" spc="-1" strike="noStrike">
                <a:solidFill>
                  <a:srgbClr val="000000"/>
                </a:solidFill>
                <a:latin typeface="Arial"/>
              </a:rPr>
              <a:t> (EU, 2010). Digitaalisten sisämarkkinoiden kehittämisen toimenpiteissä esitetään vuoteen 2012 mennessä uudelleentarkastelua julkisen sektorin hallussa olevien tietojen uudelleenkäytöstä annetusta direktiivistä, etenkin sen soveltamisalaa ja käyttö- ja hyödyntämismaksujen perimistä koskevia periaatteita. Samoin tarkastellaan vuoteen 2011 mennessä uudelleen ympäristötiedon julkisesta saatavuudesta annettua direktiiviä.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EU:n Komission tiedonanto (EU, 2009): </a:t>
            </a:r>
            <a:r>
              <a:rPr b="1" lang="fi-FI" sz="1100" spc="-1" strike="noStrike">
                <a:solidFill>
                  <a:srgbClr val="000000"/>
                </a:solidFill>
                <a:latin typeface="Arial"/>
              </a:rPr>
              <a:t>Julkisen sektorin hallussa olevien tietojen uudelleenkäyttö</a:t>
            </a:r>
            <a:r>
              <a:rPr b="0" lang="fi-FI" sz="1100" spc="-1" strike="noStrike">
                <a:solidFill>
                  <a:srgbClr val="000000"/>
                </a:solidFill>
                <a:latin typeface="Arial"/>
              </a:rPr>
              <a:t> - direktiivin 2003/98/EY uudelleentarkastelusta.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Mepsir (2006): </a:t>
            </a:r>
            <a:r>
              <a:rPr b="1" lang="fi-FI" sz="1100" spc="-1" strike="noStrike">
                <a:solidFill>
                  <a:srgbClr val="000000"/>
                </a:solidFill>
                <a:latin typeface="Arial"/>
              </a:rPr>
              <a:t>Measuring European Public Sector Information Resources</a:t>
            </a:r>
            <a:r>
              <a:rPr b="0" lang="fi-FI" sz="1100" spc="-1" strike="noStrike">
                <a:solidFill>
                  <a:srgbClr val="000000"/>
                </a:solidFill>
                <a:latin typeface="Arial"/>
              </a:rPr>
              <a:t>. Final Report of Study on Exploitation of public sector information – benchmarking of EU framework conditions.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EU Ministerial Declaration on eGovernment</a:t>
            </a:r>
            <a:r>
              <a:rPr b="0" lang="fi-FI" sz="1100" spc="-1" strike="noStrike">
                <a:solidFill>
                  <a:srgbClr val="000000"/>
                </a:solidFill>
                <a:latin typeface="Arial"/>
              </a:rPr>
              <a:t> (hyväksytty Malmössa, 18.11.2009). 11. Increase availability of public sector information for reuse. We will increase availability of public sector information for reuse, in accordance with the spirit of and the conditions established by Public Sector Information Directive 2003/98/EC. We will encourage the reuse of public data by third parties to develop enriched services that maximise the value for the public. New demand-led information products and services enabled by the reuse of public sector information will support the transition of Europe to a knowledge-based economy.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Arial"/>
              </a:rPr>
              <a:t>Julkisen tiedon saatavuus ja lainsäädäntö</a:t>
            </a:r>
            <a:r>
              <a:rPr b="0" lang="fi-FI" sz="1100" spc="-1" strike="noStrike">
                <a:solidFill>
                  <a:srgbClr val="000000"/>
                </a:solidFill>
                <a:latin typeface="Arial"/>
              </a:rPr>
              <a:t> -taustaselvitys. (LVM/Henri Tanskanen, 2010) </a:t>
            </a:r>
            <a:endParaRPr b="0" lang="en-US" sz="1100" spc="-1" strike="noStrike">
              <a:solidFill>
                <a:srgbClr val="000000"/>
              </a:solidFill>
              <a:latin typeface="Arial"/>
            </a:endParaRPr>
          </a:p>
          <a:p>
            <a:pPr marL="357120" indent="-357120">
              <a:lnSpc>
                <a:spcPct val="65000"/>
              </a:lnSpc>
              <a:spcBef>
                <a:spcPts val="4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Arial"/>
              </a:rPr>
              <a:t>Poikola, Kola, Hintikka (2010): </a:t>
            </a:r>
            <a:r>
              <a:rPr b="1" lang="fi-FI" sz="1100" spc="-1" strike="noStrike">
                <a:solidFill>
                  <a:srgbClr val="000000"/>
                </a:solidFill>
                <a:latin typeface="Arial"/>
              </a:rPr>
              <a:t>Julkinen data - johdatus tietovarantojen avaamiseen</a:t>
            </a:r>
            <a:r>
              <a:rPr b="0" lang="fi-FI" sz="1100" spc="-1" strike="noStrike">
                <a:solidFill>
                  <a:srgbClr val="000000"/>
                </a:solidFill>
                <a:latin typeface="Arial"/>
              </a:rPr>
              <a:t> (LVM:n muut julkaisut sarja, 2010).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400" spc="-1" strike="noStrike">
                <a:solidFill>
                  <a:srgbClr val="7bc143"/>
                </a:solidFill>
                <a:latin typeface="Arial"/>
              </a:rPr>
              <a:t>Minkä pitää muuttua, jotta tieto avautuisi?</a:t>
            </a:r>
            <a:r>
              <a:rPr b="1" lang="fi-FI" sz="3400" spc="-1" strike="noStrike">
                <a:solidFill>
                  <a:srgbClr val="7bc143"/>
                </a:solidFill>
                <a:latin typeface="Arial"/>
              </a:rPr>
              <a:t> </a:t>
            </a:r>
            <a:endParaRPr b="1" lang="en-US" sz="3400" spc="-1" strike="noStrike">
              <a:solidFill>
                <a:srgbClr val="7bc143"/>
              </a:solidFill>
              <a:latin typeface="Arial"/>
            </a:endParaRPr>
          </a:p>
        </p:txBody>
      </p:sp>
      <p:sp>
        <p:nvSpPr>
          <p:cNvPr id="14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jattelun.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muuden ideaalimalli: Heti mulle kaikki tieto tänne.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oimintaperiaatteena on suoraviivainen, mutta menee vastoin vahvoja nykykäytäntöjä.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rvitseeko avoimuuden heti edetä noin pitkälle?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öytyykö jokin polku, joka lisää avoimuutta pikku hiljaa?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attaisiinko helpot datat ja tiedot ensin ja edettäisiin vähitellen kohti vaikeita?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isivatko YMTOn nettisivut ja raportit se helppo aloitu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400" spc="-1" strike="noStrike">
                <a:solidFill>
                  <a:srgbClr val="7bc143"/>
                </a:solidFill>
                <a:latin typeface="Arial"/>
              </a:rPr>
              <a:t>YMTOn nettisivuilla olevat raportit eivät ole vapaasti käytettävissä.</a:t>
            </a:r>
            <a:r>
              <a:rPr b="1" lang="fi-FI" sz="3400" spc="-1" strike="noStrike">
                <a:solidFill>
                  <a:srgbClr val="7bc143"/>
                </a:solidFill>
                <a:latin typeface="Arial"/>
              </a:rPr>
              <a:t> </a:t>
            </a:r>
            <a:endParaRPr b="1" lang="en-US" sz="3400" spc="-1" strike="noStrike">
              <a:solidFill>
                <a:srgbClr val="7bc143"/>
              </a:solidFill>
              <a:latin typeface="Arial"/>
            </a:endParaRPr>
          </a:p>
        </p:txBody>
      </p:sp>
      <p:sp>
        <p:nvSpPr>
          <p:cNvPr id="14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si ei?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rinne vaatii, että kirjoittaja pitää kiinni käyttöoikeudesta materiaali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HL:n ohje on, että näin toimitaa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ukaan ei yritä arvioida tämän perinteen haittaa THL:n tavoitteelle toimia vaikuttavasti ja terveyttä paranta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tämä on käytännössä? </a:t>
            </a:r>
            <a:endParaRPr b="1" lang="en-US" sz="3400" spc="-1" strike="noStrike">
              <a:solidFill>
                <a:srgbClr val="7bc143"/>
              </a:solidFill>
              <a:latin typeface="Arial"/>
            </a:endParaRPr>
          </a:p>
        </p:txBody>
      </p:sp>
      <p:sp>
        <p:nvSpPr>
          <p:cNvPr id="15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HL:n kiireiset asiantuntijat kirjoittavat kovassa paineessa jostain ympäristöterveysasiasta raportin.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upalliset sivustot kuten terve.fi, tohtori.fi, mywellnesstrainer.fi,... napsivat asiasisällön omille sivuilleen muuttaen tekstiä sen verran, ettei tekijänoikeusrikkomusta synny.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päkaupalliset sivustot kuten wikipedia.org ehkä käyttävät tietoa, jos aihe on jonkun vapaaehtoisen mielestä riittävän tärkeä. </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os thl.fi olisi vapaasti käytettävissä, kaikki nuo tahot saisivat kopioida THL:n sisältöä vapaasti, kunhan a) lähde mainitaan asianmukaisesti ja b) sama käyttöoikeus annetaan uusien sivustojen käyttäjil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kä muuttuisi? </a:t>
            </a:r>
            <a:endParaRPr b="1" lang="en-US" sz="3400" spc="-1" strike="noStrike">
              <a:solidFill>
                <a:srgbClr val="7bc143"/>
              </a:solidFill>
              <a:latin typeface="Arial"/>
            </a:endParaRPr>
          </a:p>
        </p:txBody>
      </p:sp>
      <p:sp>
        <p:nvSpPr>
          <p:cNvPr id="15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upallisella puolella kovin vähä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päkaupallisella puolella materiaalin käyttö lisääntyisi helposti, koska suora kopioiminen ja lainaaminen olisi sallittu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pedian ympäristöterveysartikkelit paranisivat vapaaehtoisten voim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uuri yleisö löytäisi ympäristöterveystiedon paremmin.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päkaupallisen tiedon kilpailukyky kaupallisia terveystietomarkkinoijia vastaan paranisi, jolloin tiedon kytkentä terveysrahastukseen heikkenisi.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iedon avaamisen esteitä. </a:t>
            </a:r>
            <a:endParaRPr b="1" lang="en-US" sz="3400" spc="-1" strike="noStrike">
              <a:solidFill>
                <a:srgbClr val="7bc143"/>
              </a:solidFill>
              <a:latin typeface="Arial"/>
            </a:endParaRPr>
          </a:p>
        </p:txBody>
      </p:sp>
      <p:sp>
        <p:nvSpPr>
          <p:cNvPr id="15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vaamista ei mietitä eikä ole paineita sen miettimiseen.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TOn pääasiallinen tuote on tieteellinen julkaisu.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likuvat muusta kuin tieteellisestä julkaisusta liittyvät hitaaseen, kankeaan ja epämotivoivaan thl.fi-muokkaukseen.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tolaiset eivät saa palautetta käyttäjiltä tiedon avaamisen hyödyist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Ln määräykset tukevat tiedon sulkemista.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voin tiedonlevitys on pois tutkimus- ja julkaisutyöst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ole totuttu.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 ole opeteltu käyttämään avoimia työkaluja kuten Opasnetiä. </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työtavat ovat lähtökohtaisesti salaavia, tiedon avaaminen on erityinen vaiva. Pitäisi olla päinvastoin.</a:t>
            </a:r>
            <a:endParaRPr b="0" lang="en-US" sz="2000" spc="-1" strike="noStrike">
              <a:solidFill>
                <a:srgbClr val="000000"/>
              </a:solidFill>
              <a:latin typeface="Arial"/>
            </a:endParaRPr>
          </a:p>
          <a:p>
            <a:pPr marL="357120" indent="-3571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vaaminen haittaa saman tiedon julkaisemista tieteellisissä lehdissä.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aul-mustekala: suoriutuminen on ratkaisevaa</a:t>
            </a:r>
            <a:endParaRPr b="1" lang="en-US" sz="3400" spc="-1" strike="noStrike">
              <a:solidFill>
                <a:srgbClr val="7bc143"/>
              </a:solidFill>
              <a:latin typeface="Arial"/>
            </a:endParaRPr>
          </a:p>
        </p:txBody>
      </p:sp>
      <p:sp>
        <p:nvSpPr>
          <p:cNvPr id="157" name="PlaceHolder 2"/>
          <p:cNvSpPr>
            <a:spLocks noGrp="1"/>
          </p:cNvSpPr>
          <p:nvPr>
            <p:ph/>
          </p:nvPr>
        </p:nvSpPr>
        <p:spPr>
          <a:xfrm>
            <a:off x="899640" y="5876640"/>
            <a:ext cx="7713720" cy="36036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 Wikipedia</a:t>
            </a:r>
            <a:endParaRPr b="0" lang="en-US" sz="2200" spc="-1" strike="noStrike">
              <a:solidFill>
                <a:srgbClr val="000000"/>
              </a:solidFill>
              <a:latin typeface="Arial"/>
            </a:endParaRPr>
          </a:p>
        </p:txBody>
      </p:sp>
      <p:pic>
        <p:nvPicPr>
          <p:cNvPr id="158" name="" descr=""/>
          <p:cNvPicPr/>
          <p:nvPr/>
        </p:nvPicPr>
        <p:blipFill>
          <a:blip r:embed="rId1"/>
          <a:stretch/>
        </p:blipFill>
        <p:spPr>
          <a:xfrm>
            <a:off x="1403280" y="1262160"/>
            <a:ext cx="5977080" cy="46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Paulin ennusteet jalkapallo-otteluista</a:t>
            </a:r>
            <a:endParaRPr b="1" lang="en-US" sz="3400" spc="-1" strike="noStrike">
              <a:solidFill>
                <a:srgbClr val="7bc143"/>
              </a:solidFill>
              <a:latin typeface="Arial"/>
            </a:endParaRPr>
          </a:p>
        </p:txBody>
      </p:sp>
      <p:pic>
        <p:nvPicPr>
          <p:cNvPr id="160" name="" descr=""/>
          <p:cNvPicPr/>
          <p:nvPr/>
        </p:nvPicPr>
        <p:blipFill>
          <a:blip r:embed="rId1"/>
          <a:stretch/>
        </p:blipFill>
        <p:spPr>
          <a:xfrm>
            <a:off x="652320" y="1284120"/>
            <a:ext cx="8491680" cy="5573880"/>
          </a:xfrm>
          <a:prstGeom prst="rect">
            <a:avLst/>
          </a:prstGeom>
          <a:ln w="0">
            <a:noFill/>
          </a:ln>
        </p:spPr>
      </p:pic>
      <p:sp>
        <p:nvSpPr>
          <p:cNvPr id="161" name="PlaceHolder 2"/>
          <p:cNvSpPr>
            <a:spLocks noGrp="1"/>
          </p:cNvSpPr>
          <p:nvPr>
            <p:ph/>
          </p:nvPr>
        </p:nvSpPr>
        <p:spPr>
          <a:xfrm>
            <a:off x="6588000" y="6093000"/>
            <a:ext cx="2556000" cy="5745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 Wikipedi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Avoimuutta käytännössä</a:t>
            </a:r>
            <a:endParaRPr b="1" lang="en-US" sz="3400" spc="-1" strike="noStrike">
              <a:solidFill>
                <a:srgbClr val="7bc143"/>
              </a:solidFill>
              <a:latin typeface="Arial"/>
            </a:endParaRPr>
          </a:p>
        </p:txBody>
      </p:sp>
      <p:sp>
        <p:nvSpPr>
          <p:cNvPr id="9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vataan tuotettua materiaalia vapaaseen käyttöö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vataan keskeneräistä materiaalia ja dataa vapaaseen käyttöö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uutetaan toimintatapoja niin, että nekin ovat avoimesti nähtävillä ja lainattaviss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äytetään työkaluja, jotka ovat muidenkin avoimesti käytettäviss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t>
            </a:r>
            <a:r>
              <a:rPr b="0" lang="fi-FI" sz="2600" spc="-1" strike="noStrike">
                <a:solidFill>
                  <a:srgbClr val="000000"/>
                </a:solidFill>
                <a:latin typeface="Arial"/>
              </a:rPr>
              <a:t>Sitä ei ole, ennen kuin olet jakanut sen muil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Se mitä nyt aion esittää on uskomatonta, siis sellaista mitä te ette luultavasti usko. Usein harhaudun keskusteluihin, jossa yritän sinnikkäästi mutta huonolla menestyksellä todistella, että näihin asioihin kannattaisi uskoa. Nyt yritän välttää tuota todistelua ja jankutusta. Uskokaa tai älkää, miten haluatte. Monille koko aihepiiri on niin uusi, ettei tiedä mitä siitä uskoisi. Ei tarvitsekaan tietää, vaan pitää alkaa ajatell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Esitykseni tavoitteena on saada teidät ajattelemaan, millaista tieteenteko olisi, JOS se mitä kerron olisi totta. Koettakaa siis keskittyä tämän kuvitteluun murehtimatta voisiko kaikki kuulemanne muka olla oikeasti tott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Itse asetan omalle työlleni kolme tavoitetta (koskee tietotyötä):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ni tulosten pitää olla joillekuille toisille ihmisille hyödyllisiä.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menetelmieni pitää olla sellaisia, että nekin ovat toisille hyödyllisiä eli muut pystyvät niiden avulla helposti toistamaan työni tai tekemään uuden, samantapaisen työn.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Työni tulosten ja työmenetelmieni pitää olla muiden käytettävissä työpäivän lopussa. </a:t>
            </a:r>
            <a:endParaRPr b="0" lang="en-US" sz="1700" spc="-1" strike="noStrike">
              <a:solidFill>
                <a:srgbClr val="000000"/>
              </a:solidFill>
              <a:latin typeface="Arial"/>
            </a:endParaRPr>
          </a:p>
          <a:p>
            <a:pPr marL="357120" indent="-357120">
              <a:lnSpc>
                <a:spcPct val="65000"/>
              </a:lnSpc>
              <a:spcBef>
                <a:spcPts val="7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700" spc="-1" strike="noStrike">
                <a:solidFill>
                  <a:srgbClr val="000000"/>
                </a:solidFill>
                <a:latin typeface="Arial"/>
              </a:rPr>
              <a:t>Sanonta: Uskomattomia asioita voi saavuttaa henkilö, joka ei piittaa siitä, kuka saa tuloksista kunnian.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6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There are several possible approaches to opennes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alongside with scientific publication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before publication? This would lead to a different logic of publishing, as the original researcher partly loses control over the data. Why and how should this be done?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ata: how to open up data that is partly secret (e.g. patient information) in a way that would enable open analysis?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publishing: what is the role of traditional pre-publishing peer review? What are the possibilities and threats of publish-first-review-later approach?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science: if data is opened immediately, the information production, analysis and interpretation can be distributed to different people and institutes. What does this mean for the scientific practices? How is merit distributed among data producer, analyst, and interpreter?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science: the current practices of making science are based on small, rather isolated expert groups publishing in printed journals that control publishing. There are strong forces towards large self-organised groups that take a piece of data, make something out of it, publish it in the Internet, and take actions based on the output. This data processing and use is controlled neither by experts nor journals. Scientists fighting against this trend will fail. What should scientific societies do? </a:t>
            </a:r>
            <a:endParaRPr b="0" lang="en-US" sz="1500" spc="-1" strike="noStrike">
              <a:solidFill>
                <a:srgbClr val="000000"/>
              </a:solidFill>
              <a:latin typeface="Arial"/>
            </a:endParaRPr>
          </a:p>
          <a:p>
            <a:pPr marL="357120" indent="-357120">
              <a:lnSpc>
                <a:spcPct val="65000"/>
              </a:lnSpc>
              <a:spcBef>
                <a:spcPts val="6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Arial"/>
              </a:rPr>
              <a:t>Open decision-making: with more data available, more decision-making can be based on that. What is the role of researchers in this development? Do researchers want to participate in the practical societal use of their data? If they don’t want, who does it? </a:t>
            </a:r>
            <a:endParaRPr b="0" lang="en-US" sz="1500" spc="-1" strike="noStrike">
              <a:solidFill>
                <a:srgbClr val="000000"/>
              </a:solidFill>
              <a:latin typeface="Arial"/>
            </a:endParaRPr>
          </a:p>
          <a:p>
            <a:pPr marL="357120" indent="0">
              <a:lnSpc>
                <a:spcPct val="6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Millainen pienhiukkasten annosvaste voisi olla avoimen tieteen maailmassa?</a:t>
            </a:r>
            <a:endParaRPr b="1" lang="en-US" sz="3000" spc="-1" strike="noStrike">
              <a:solidFill>
                <a:srgbClr val="7bc143"/>
              </a:solidFill>
              <a:latin typeface="Arial"/>
            </a:endParaRPr>
          </a:p>
        </p:txBody>
      </p:sp>
      <p:sp>
        <p:nvSpPr>
          <p:cNvPr id="17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ykytilanne: tieto annosvasteesta on pirstottu 10000 tieteelliseen artikkeliin ja tuhanteen katsaukse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en avulla lasketaan pienhiukkasten aiheuttamat ylimääräiset kuolemat, elinajanodotteen lyhenemä tai pienhiukkasten aiheuttama sairastuvuus eri tauteihin.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äitä tietoja käytetään suhteuttamaan asioidan vaarallisuutta, arvioimaan toimenpiteiden järkevyyttä tai valistamaan ihmisiä aiheest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iksi käyttäjän pitäisi tietää tästä mitään? Eihän kännykän käyttäjältäkään edellytetä kvanttifysiikan alkeitakaan, vaikka laitteen toiminta olennaisesti perustuu siih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tietoa loppukäyttäjä tarvitsee annosvasteesta? </a:t>
            </a:r>
            <a:endParaRPr b="1" lang="en-US" sz="3400" spc="-1" strike="noStrike">
              <a:solidFill>
                <a:srgbClr val="7bc143"/>
              </a:solidFill>
              <a:latin typeface="Arial"/>
            </a:endParaRPr>
          </a:p>
        </p:txBody>
      </p:sp>
      <p:sp>
        <p:nvSpPr>
          <p:cNvPr id="17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nnosvastekäyrän muoto.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yrän kulmekerroin tai muu jyrkkyyttä kuvaava mitt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issä yksiköissä asiaa mita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Mitkä seikat vaikuttavat annosvasteen jyrkkyytee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uvan väestön ikä tai sukupuol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uvan väestön perussairauden ja taustariski.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een kemiallinen koostumus ja hiukkasten koko.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tisteen ikä ja ilmakemia (eli muutunta ilmakehässä). </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nka monta eri kuvausta annosvasteesta tarvitaan?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ksi.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uinka monta eri kuvausta annosvasteesta on olemassa?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0000. (katsauksiakin on yli tuhat) </a:t>
            </a: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                   </a:t>
            </a:r>
            <a:r>
              <a:rPr b="1" lang="fi-FI" sz="3400" spc="-1" strike="noStrike">
                <a:solidFill>
                  <a:srgbClr val="7bc143"/>
                </a:solidFill>
                <a:latin typeface="Arial"/>
              </a:rPr>
              <a:t>Tiedon olemus: </a:t>
            </a:r>
            <a:br>
              <a:rPr sz="3400"/>
            </a:br>
            <a:r>
              <a:rPr b="1" lang="fi-FI" sz="3400" spc="-1" strike="noStrike">
                <a:solidFill>
                  <a:srgbClr val="7bc143"/>
                </a:solidFill>
                <a:latin typeface="Arial"/>
              </a:rPr>
              <a:t>        tuote            vai           käyttö?</a:t>
            </a:r>
            <a:endParaRPr b="1" lang="en-US" sz="3400" spc="-1" strike="noStrike">
              <a:solidFill>
                <a:srgbClr val="7bc143"/>
              </a:solidFill>
              <a:latin typeface="Arial"/>
            </a:endParaRPr>
          </a:p>
        </p:txBody>
      </p:sp>
      <p:sp>
        <p:nvSpPr>
          <p:cNvPr id="101" name="PlaceHolder 2"/>
          <p:cNvSpPr>
            <a:spLocks noGrp="1"/>
          </p:cNvSpPr>
          <p:nvPr>
            <p:ph/>
          </p:nvPr>
        </p:nvSpPr>
        <p:spPr>
          <a:xfrm>
            <a:off x="456840" y="1484280"/>
            <a:ext cx="403236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ennaista on tuote (raportti, julkaisu).</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yvän tuotteen ominaisuuksia:</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ysyv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heettöm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smällis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rhattom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vostettu foorumi</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n tuottajan rooli: kirjailija (Shakespeare)</a:t>
            </a:r>
            <a:endParaRPr b="0" lang="en-US" sz="2200" spc="-1" strike="noStrike">
              <a:solidFill>
                <a:srgbClr val="000000"/>
              </a:solidFill>
              <a:latin typeface="Arial"/>
            </a:endParaRPr>
          </a:p>
        </p:txBody>
      </p:sp>
      <p:sp>
        <p:nvSpPr>
          <p:cNvPr id="102" name="PlaceHolder 3"/>
          <p:cNvSpPr>
            <a:spLocks noGrp="1"/>
          </p:cNvSpPr>
          <p:nvPr>
            <p:ph/>
          </p:nvPr>
        </p:nvSpPr>
        <p:spPr>
          <a:xfrm>
            <a:off x="4641480" y="1484280"/>
            <a:ext cx="403380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lennaista on tiedon käyttö (tekeminen).</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Hyvän käytettävyyden piirteitä:</a:t>
            </a:r>
            <a:endParaRPr b="0" lang="en-US" sz="22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llis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elppo käytettävyy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ä korjattav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vellettavuus</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ja käyttäjäkunta</a:t>
            </a:r>
            <a:endParaRPr b="0" lang="en-US" sz="2000" spc="-1" strike="noStrike">
              <a:solidFill>
                <a:srgbClr val="000000"/>
              </a:solidFill>
              <a:latin typeface="Arial"/>
            </a:endParaRPr>
          </a:p>
          <a:p>
            <a:pPr lvl="1" marL="809640" indent="-273240">
              <a:lnSpc>
                <a:spcPct val="8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jät tyytyväisiä</a:t>
            </a:r>
            <a:endParaRPr b="0" lang="en-US" sz="20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iedon tuottajan rooli: valmentaja (Curt Lindströ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iedon avaamisen psykologisia esteitä. </a:t>
            </a:r>
            <a:endParaRPr b="1" lang="en-US" sz="3400" spc="-1" strike="noStrike">
              <a:solidFill>
                <a:srgbClr val="7bc143"/>
              </a:solidFill>
              <a:latin typeface="Arial"/>
            </a:endParaRPr>
          </a:p>
        </p:txBody>
      </p:sp>
      <p:sp>
        <p:nvSpPr>
          <p:cNvPr id="10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lätään, että avointa tietoa käytetään väärin.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uotenäkökulma: vastuu rajoittuu tuotteen sisältöön.</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äyttönäkökulma: parantaako tuottamani tieto toimintaa yhteiskunnassa?</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elätään, ettei tiedosta saakaan kunniaa jos sen avaa.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t>
            </a:r>
            <a:r>
              <a:rPr b="0" lang="fi-FI" sz="2400" spc="-1" strike="noStrike">
                <a:solidFill>
                  <a:srgbClr val="000000"/>
                </a:solidFill>
                <a:latin typeface="Arial"/>
              </a:rPr>
              <a:t>Jään itse työttömäksi jos avaan vuosien työn.”</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Ei haluta näyttää keskeneräistä työtä. </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Ei toimisi rakennusala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Tulenkantajien rooli </a:t>
            </a:r>
            <a:endParaRPr b="1" lang="en-US" sz="3400" spc="-1" strike="noStrike">
              <a:solidFill>
                <a:srgbClr val="7bc143"/>
              </a:solidFill>
              <a:latin typeface="Arial"/>
            </a:endParaRPr>
          </a:p>
        </p:txBody>
      </p:sp>
      <p:sp>
        <p:nvSpPr>
          <p:cNvPr id="10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MTO on omalla alallaan niin iso toimija, että se voi päättää siirtyä avoimeksi, ja tämä alkaa vaikuttaa siihen, miten meriittiä jaetaan ympäristöterveydessä.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MTO voi myös muuttaa THL:n toimintatapoja näyttämällä suuntaa ja osoittamalla, että ne toimivat.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ubmed jakaa ilmaiseksi kirjallisuustietoa ja terveystiedon osalta maailmasta tulee tasa-arvoisempi. </a:t>
            </a:r>
            <a:endParaRPr b="0" lang="en-US" sz="26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ämä on USAn National Library of Medicinen lahja ihmiskunnalle. </a:t>
            </a:r>
            <a:endParaRPr b="0" lang="en-US" sz="2400" spc="-1" strike="noStrike">
              <a:solidFill>
                <a:srgbClr val="000000"/>
              </a:solidFill>
              <a:latin typeface="Arial"/>
            </a:endParaRPr>
          </a:p>
          <a:p>
            <a:pPr lvl="1" marL="809640" indent="-27324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YMTOn pitää antaa oma lahjansa. Mikä se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hdotuksia avoimuuteen siirtymiseksi: </a:t>
            </a:r>
            <a:endParaRPr b="1" lang="en-US" sz="3400" spc="-1" strike="noStrike">
              <a:solidFill>
                <a:srgbClr val="7bc143"/>
              </a:solidFill>
              <a:latin typeface="Arial"/>
            </a:endParaRPr>
          </a:p>
        </p:txBody>
      </p:sp>
      <p:sp>
        <p:nvSpPr>
          <p:cNvPr id="10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Julkaistaan kaikki tulevat raportit, väitöskirjat ym. avoimella lisenssill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Siirretään YMTOn nettisivut ylläpidettäväksi joko Wikipediaan (</a:t>
            </a:r>
            <a:r>
              <a:rPr b="0" lang="fi-FI" sz="2200" spc="-1" strike="noStrike" u="sng">
                <a:solidFill>
                  <a:srgbClr val="c1df63"/>
                </a:solidFill>
                <a:uFillTx/>
                <a:latin typeface="Arial"/>
                <a:hlinkClick r:id="rId1"/>
              </a:rPr>
              <a:t>www.ymparisto.fi</a:t>
            </a:r>
            <a:r>
              <a:rPr b="0" lang="fi-FI" sz="2200" spc="-1" strike="noStrike">
                <a:solidFill>
                  <a:srgbClr val="000000"/>
                </a:solidFill>
                <a:latin typeface="Arial"/>
              </a:rPr>
              <a:t> harkitsee myös) tai Opasnetiin.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eksi rakennetaan teemasivu ja esim. yksikkökohtaiset luokat. </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sältöä kopioidaan THL.FI:hin tarpeen mukaan.</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alvityöläisten hyödyntäminen: tiedonkeruuta ja sivujen ylläpitoa voi delegoida ihmisille, jotka osaavat wikiä. </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Perustetaan oma ryhmä, joka alkaa avata tutkimusdataa nettiin ja miettii siihen liittyviä ongelmia ja ratkaisuja. </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L:llä on oma tietovarantoryhmänsä, jota me voimme tuke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ytetään Opasnetia tutkimusprojekteiss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Tehdään suunnitelma siitä, miten siirrytään yhteisiin työkaluihin ja opetellaan puhumaan yhteistä kieltä.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Jos et avaa tietojasi, kukaan ei voi auttaa sinua. </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Jos käytät eri työkaluja kuin muut, auttaminen on vaikeampa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nnattaa siis käyttää yleiskäyttöisiä työkaluja, joilla on paljon osaajia. </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leiskäyttöisyydessä ei ratkaisevaa ole se, mitkä asiat ovat yleisiä </a:t>
            </a:r>
            <a:r>
              <a:rPr b="1" lang="fi-FI" sz="2600" spc="-1" strike="noStrike">
                <a:solidFill>
                  <a:srgbClr val="000000"/>
                </a:solidFill>
                <a:latin typeface="Arial"/>
              </a:rPr>
              <a:t>nyt</a:t>
            </a:r>
            <a:r>
              <a:rPr b="0" lang="fi-FI" sz="2600" spc="-1" strike="noStrike">
                <a:solidFill>
                  <a:srgbClr val="000000"/>
                </a:solidFill>
                <a:latin typeface="Arial"/>
              </a:rPr>
              <a:t>, vaan se että niiden käyttö on suoraviivaista ja että niillä on potentiaalia levitä laajaan käyttöön. Suljetut ja kalliit järjestelmät ovat tämän takia huonoja. </a:t>
            </a:r>
            <a:endParaRPr b="0" lang="en-US" sz="26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 on parempi kuin SAS. </a:t>
            </a:r>
            <a:endParaRPr b="0" lang="en-US" sz="22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R:n GIS-paketit ovat parempia kuin ArcGIS. </a:t>
            </a:r>
            <a:endParaRPr b="0" lang="en-US" sz="2200" spc="-1" strike="noStrike">
              <a:solidFill>
                <a:srgbClr val="000000"/>
              </a:solidFill>
              <a:latin typeface="Arial"/>
            </a:endParaRPr>
          </a:p>
          <a:p>
            <a:pPr lvl="2" marL="1254240" indent="-265320">
              <a:lnSpc>
                <a:spcPct val="75000"/>
              </a:lnSpc>
              <a:spcBef>
                <a:spcPts val="689"/>
              </a:spcBef>
              <a:buClr>
                <a:srgbClr val="7bc14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Avoin ja joustava Opasnet-kanta on parempi kuin joka asiaan erikseen räätälöidyt tietokann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Yleiskäyttöisyyden esimerkkejä Opasnetissä: Samat työkalut tuottavat </a:t>
            </a: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projektibudjettej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vosteollisuuden riskinarviointej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kainfluenssan terveysriskeistä käytävää keskustelu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radonin pitoisuuskarttoja Suomessa </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enäjän vaalidatan tilastoanalyysi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17:16:31Z</dcterms:created>
  <dc:creator>ktluser</dc:creator>
  <dc:description/>
  <dc:language>en-US</dc:language>
  <cp:lastModifiedBy>Jouni Tuomisto</cp:lastModifiedBy>
  <dcterms:modified xsi:type="dcterms:W3CDTF">2012-02-15T11:56:53Z</dcterms:modified>
  <cp:revision>16</cp:revision>
  <dc:subject/>
  <dc:title>WP2 Energy balance modelling</dc:title>
</cp:coreProperties>
</file>